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D16A-192E-4CE6-86A9-826A33911B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A057-E762-468C-BE25-445C01B66D8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08A1-D018-48CF-AB30-5D84A9D34F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F6ED-5A7B-456B-9B05-3A7B8808B8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0766-4F1A-42A2-94E5-ABABF569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A156-8425-4AF3-A9C9-290A58EC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CE9E-F783-4E06-8CCF-34988C9001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C7A1-9103-4D1C-B408-502EDD70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7799-4C3A-4A85-900E-B612F69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7C31-8543-482C-8AE9-4FF1C54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6EF0-18F6-4B0A-A946-985C7F9D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3C7B-8798-4141-8BB2-FD2C97F3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7CD5-F26F-4394-8CD5-BF0B2ACB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39F6-F925-450E-A1D2-A63B5266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2093-AFF4-49B4-89F8-B5F6041A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020-4049-4208-B268-AE1283F2B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26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发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9" name="组合 13"/>
          <p:cNvGrpSpPr/>
          <p:nvPr/>
        </p:nvGrpSpPr>
        <p:grpSpPr>
          <a:xfrm>
            <a:off x="857160" y="1785960"/>
            <a:ext cx="7816680" cy="4200840"/>
            <a:chOff x="857160" y="1785960"/>
            <a:chExt cx="7816680" cy="4200840"/>
          </a:xfrm>
        </p:grpSpPr>
        <p:pic>
          <p:nvPicPr>
            <p:cNvPr id="160" name="Picture 2" descr="http://netclass.csu.edu.cn/jpkc2005/bingsheng/xxfd/jxfdgp/5.files/Image00020.jpg"/>
            <p:cNvPicPr/>
            <p:nvPr/>
          </p:nvPicPr>
          <p:blipFill>
            <a:blip r:embed="rId1"/>
            <a:srcRect l="0" t="0" r="0" b="38891"/>
            <a:stretch/>
          </p:blipFill>
          <p:spPr>
            <a:xfrm>
              <a:off x="857160" y="3945960"/>
              <a:ext cx="7500240" cy="13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Box 5"/>
            <p:cNvSpPr/>
            <p:nvPr/>
          </p:nvSpPr>
          <p:spPr>
            <a:xfrm>
              <a:off x="272016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4576"/>
                </a:gs>
                <a:gs pos="100000">
                  <a:srgbClr val="005fa1"/>
                </a:gs>
              </a:gsLst>
              <a:lin ang="16200000"/>
            </a:gradFill>
            <a:ln w="9360">
              <a:solidFill>
                <a:srgbClr val="005a8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线形标注 3(带边框和强调线) 7"/>
            <p:cNvSpPr/>
            <p:nvPr/>
          </p:nvSpPr>
          <p:spPr>
            <a:xfrm>
              <a:off x="1071720" y="1857240"/>
              <a:ext cx="2214360" cy="221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1822" y="27586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b0f2ff"/>
                </a:gs>
                <a:gs pos="100000">
                  <a:srgbClr val="e8fcff"/>
                </a:gs>
              </a:gsLst>
              <a:lin ang="16200000"/>
            </a:gradFill>
            <a:ln w="9360">
              <a:solidFill>
                <a:srgbClr val="85c4d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畏寒或寒战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全身不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疲乏无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肌肉酸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干燥无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线形标注 3(带边框和强调线) 8"/>
            <p:cNvSpPr/>
            <p:nvPr/>
          </p:nvSpPr>
          <p:spPr>
            <a:xfrm flipH="1">
              <a:off x="6500880" y="2243160"/>
              <a:ext cx="1714320" cy="121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29179" y="42149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9fc3f5"/>
                </a:gs>
                <a:gs pos="100000">
                  <a:srgbClr val="e5eef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潮湿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线形标注 3(带边框和强调线) 10"/>
            <p:cNvSpPr/>
            <p:nvPr/>
          </p:nvSpPr>
          <p:spPr>
            <a:xfrm>
              <a:off x="3929040" y="1785960"/>
              <a:ext cx="2071440" cy="216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574" y="26151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gradFill rotWithShape="0">
              <a:gsLst>
                <a:gs pos="0">
                  <a:srgbClr val="e1b8e3"/>
                </a:gs>
                <a:gs pos="100000">
                  <a:srgbClr val="f7ebf8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临床表现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寒战消失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呼吸加快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自觉全身灼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皮肤转为潮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多汗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……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>
              <a:off x="4119480" y="4919760"/>
              <a:ext cx="942840" cy="398880"/>
            </a:xfrm>
            <a:prstGeom prst="rect">
              <a:avLst/>
            </a:prstGeom>
            <a:gradFill rotWithShape="0">
              <a:gsLst>
                <a:gs pos="0">
                  <a:srgbClr val="764478"/>
                </a:gs>
                <a:gs pos="100000">
                  <a:srgbClr val="9d5aa0"/>
                </a:gs>
              </a:gsLst>
              <a:lin ang="16200000"/>
            </a:gradFill>
            <a:ln w="9360">
              <a:solidFill>
                <a:srgbClr val="97629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＝散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12"/>
            <p:cNvSpPr/>
            <p:nvPr/>
          </p:nvSpPr>
          <p:spPr>
            <a:xfrm>
              <a:off x="5506200" y="5587920"/>
              <a:ext cx="1061640" cy="398880"/>
            </a:xfrm>
            <a:prstGeom prst="rect">
              <a:avLst/>
            </a:prstGeom>
            <a:gradFill rotWithShape="0">
              <a:gsLst>
                <a:gs pos="0">
                  <a:srgbClr val="00538c"/>
                </a:gs>
                <a:gs pos="100000">
                  <a:srgbClr val="0071bd"/>
                </a:gs>
              </a:gsLst>
              <a:lin ang="16200000"/>
            </a:gradFill>
            <a:ln w="9360">
              <a:solidFill>
                <a:srgbClr val="006ba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散热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&gt;</a:t>
              </a: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产热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13"/>
            <p:cNvSpPr/>
            <p:nvPr/>
          </p:nvSpPr>
          <p:spPr>
            <a:xfrm>
              <a:off x="104184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升型及缓升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TextBox 14"/>
            <p:cNvSpPr/>
            <p:nvPr/>
          </p:nvSpPr>
          <p:spPr>
            <a:xfrm>
              <a:off x="7121520" y="440820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（骤降型及缓降型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9" name="矩形 15"/>
          <p:cNvSpPr/>
          <p:nvPr/>
        </p:nvSpPr>
        <p:spPr>
          <a:xfrm>
            <a:off x="654120" y="128592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的过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920" y="1214280"/>
            <a:ext cx="86248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热型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稽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持续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40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间体温变动范围不超过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，高热可持续数日或数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大叶性肺炎、伤寒、副伤寒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1" descr="图片11-1"/>
          <p:cNvPicPr/>
          <p:nvPr/>
        </p:nvPicPr>
        <p:blipFill>
          <a:blip r:embed="rId1"/>
          <a:stretch/>
        </p:blipFill>
        <p:spPr>
          <a:xfrm>
            <a:off x="3000240" y="3571920"/>
            <a:ext cx="3541680" cy="2786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04560" y="1214280"/>
            <a:ext cx="81961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弛张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昼夜变动范围在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 ℃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但最低温度仍高于正常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化脓性感染、败血症、严重结核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2" descr="图片11-2"/>
          <p:cNvPicPr/>
          <p:nvPr/>
        </p:nvPicPr>
        <p:blipFill>
          <a:blip r:embed="rId1"/>
          <a:stretch/>
        </p:blipFill>
        <p:spPr>
          <a:xfrm>
            <a:off x="2786040" y="3071880"/>
            <a:ext cx="3632400" cy="3000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间歇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时，体温骤升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以上，持续数小时后骤降至正常或以下；持续数小时或数日后，体温又突然升高，如此高热期与无热期反复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疟疾、急性肾盂肾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1" name="图片 3" descr="图片11-3"/>
          <p:cNvPicPr/>
          <p:nvPr/>
        </p:nvPicPr>
        <p:blipFill>
          <a:blip r:embed="rId1"/>
          <a:stretch/>
        </p:blipFill>
        <p:spPr>
          <a:xfrm>
            <a:off x="3000240" y="3714840"/>
            <a:ext cx="3929040" cy="2654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波状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逐渐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数日后逐渐降至正常体温，持续数日后又逐渐上升，如此反复，使体温曲线呈波浪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布鲁菌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5" name="图片 4" descr="图片11-4"/>
          <p:cNvPicPr/>
          <p:nvPr/>
        </p:nvPicPr>
        <p:blipFill>
          <a:blip r:embed="rId1"/>
          <a:stretch/>
        </p:blipFill>
        <p:spPr>
          <a:xfrm>
            <a:off x="2714760" y="3429000"/>
            <a:ext cx="3605040" cy="28368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2920" y="121428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回归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体温骤然升高达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9 ℃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或以上，持续数日后体温骤然下降至正常，这样高热期和无热期各持续数日后，规律地交替出现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回归热、霍奇金病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图片 5" descr="图片11-5"/>
          <p:cNvPicPr/>
          <p:nvPr/>
        </p:nvPicPr>
        <p:blipFill>
          <a:blip r:embed="rId1"/>
          <a:stretch/>
        </p:blipFill>
        <p:spPr>
          <a:xfrm>
            <a:off x="2714760" y="3500280"/>
            <a:ext cx="3527280" cy="28036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214280"/>
            <a:ext cx="891540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不规则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发热无规律，每日体温波动范围不定，为临床常见的热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见于结核病、风湿热、支气管肺炎、胸膜炎等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图片 6" descr="图片11-6"/>
          <p:cNvPicPr/>
          <p:nvPr/>
        </p:nvPicPr>
        <p:blipFill>
          <a:blip r:embed="rId1"/>
          <a:stretch/>
        </p:blipFill>
        <p:spPr>
          <a:xfrm>
            <a:off x="2357280" y="3141720"/>
            <a:ext cx="3972240" cy="3124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04920" y="1214280"/>
            <a:ext cx="8339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伴随症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寒战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感染性疾病、输液输血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咳嗽、咳痰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呼吸道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腹痛、腹泻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消化系统感染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意识障碍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中枢神经系统病变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皮疹</a:t>
            </a:r>
            <a:r>
              <a:rPr b="0" lang="en-US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急性出疹性传染病、药物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楷体_GB2312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淋巴结结核、传染性单核细胞增多症、淋巴瘤、白血病、恶性肿瘤淋巴结转移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对患者身心的影响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1" name="组合 5"/>
          <p:cNvGrpSpPr/>
          <p:nvPr/>
        </p:nvGrpSpPr>
        <p:grpSpPr>
          <a:xfrm>
            <a:off x="857160" y="2714760"/>
            <a:ext cx="7358040" cy="3179520"/>
            <a:chOff x="857160" y="2714760"/>
            <a:chExt cx="7358040" cy="3179520"/>
          </a:xfrm>
        </p:grpSpPr>
        <p:pic>
          <p:nvPicPr>
            <p:cNvPr id="202" name="Picture 4" descr="http://img2.imgtn.bdimg.com/it/u=3709648299,3701873481&amp;fm=21&amp;gp=0.jpg"/>
            <p:cNvPicPr/>
            <p:nvPr/>
          </p:nvPicPr>
          <p:blipFill>
            <a:blip r:embed="rId1"/>
            <a:stretch/>
          </p:blipFill>
          <p:spPr>
            <a:xfrm>
              <a:off x="6053400" y="2714760"/>
              <a:ext cx="2133360" cy="3179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组合 16"/>
            <p:cNvGrpSpPr/>
            <p:nvPr/>
          </p:nvGrpSpPr>
          <p:grpSpPr>
            <a:xfrm>
              <a:off x="857160" y="2769840"/>
              <a:ext cx="2143080" cy="2346120"/>
              <a:chOff x="857160" y="2769840"/>
              <a:chExt cx="2143080" cy="2346120"/>
            </a:xfrm>
          </p:grpSpPr>
          <p:pic>
            <p:nvPicPr>
              <p:cNvPr id="204" name="Picture 2" descr="http://img5.imgtn.bdimg.com/it/u=1604391921,2739947916&amp;fm=21&amp;gp=0.jpg"/>
              <p:cNvPicPr/>
              <p:nvPr/>
            </p:nvPicPr>
            <p:blipFill>
              <a:blip r:embed="rId2"/>
              <a:stretch/>
            </p:blipFill>
            <p:spPr>
              <a:xfrm>
                <a:off x="857160" y="2769840"/>
                <a:ext cx="2143080" cy="234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TextBox 11"/>
              <p:cNvSpPr/>
              <p:nvPr/>
            </p:nvSpPr>
            <p:spPr>
              <a:xfrm>
                <a:off x="872640" y="3897000"/>
                <a:ext cx="2064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精神状态：心情烦躁或焦虑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13"/>
            <p:cNvGrpSpPr/>
            <p:nvPr/>
          </p:nvGrpSpPr>
          <p:grpSpPr>
            <a:xfrm>
              <a:off x="3500280" y="2716200"/>
              <a:ext cx="2095560" cy="2400120"/>
              <a:chOff x="3500280" y="2716200"/>
              <a:chExt cx="2095560" cy="2400120"/>
            </a:xfrm>
          </p:grpSpPr>
          <p:pic>
            <p:nvPicPr>
              <p:cNvPr id="207" name="Picture 6" descr="http://img2.imgtn.bdimg.com/it/u=1592856059,3444524725&amp;fm=21&amp;gp=0.jp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2716200"/>
                <a:ext cx="2095560" cy="24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TextBox 12"/>
              <p:cNvSpPr/>
              <p:nvPr/>
            </p:nvSpPr>
            <p:spPr>
              <a:xfrm>
                <a:off x="3519360" y="3897720"/>
                <a:ext cx="2035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lv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46ca6"/>
                    </a:solidFill>
                    <a:latin typeface="楷体_GB2312"/>
                    <a:ea typeface="楷体_GB2312"/>
                  </a:rPr>
                  <a:t>睡眠障碍及二便异常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9" name="TextBox 15"/>
            <p:cNvSpPr/>
            <p:nvPr/>
          </p:nvSpPr>
          <p:spPr>
            <a:xfrm>
              <a:off x="6072120" y="4280040"/>
              <a:ext cx="214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食欲缺乏及体重下降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病因或诱因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疲劳、受寒及饮食不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传染病或疫水接触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手术、外伤、分娩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输血、服药、药物过敏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慢性病及家族遗传病史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诊断、治疗与护理经过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做过的检查，结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发热后曾采取过的治疗及护理措施，效果如何？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50104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概念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受到致热原的作用，或其体温调节中枢发生功能障碍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机体产热增多，散热减少，体温升高超过正常范围。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grpSp>
        <p:nvGrpSpPr>
          <p:cNvPr id="114" name="组合 11"/>
          <p:cNvGrpSpPr/>
          <p:nvPr/>
        </p:nvGrpSpPr>
        <p:grpSpPr>
          <a:xfrm>
            <a:off x="1546560" y="4214880"/>
            <a:ext cx="6087240" cy="852480"/>
            <a:chOff x="1546560" y="4214880"/>
            <a:chExt cx="6087240" cy="852480"/>
          </a:xfrm>
        </p:grpSpPr>
        <p:sp>
          <p:nvSpPr>
            <p:cNvPr id="115" name="TextBox 4"/>
            <p:cNvSpPr/>
            <p:nvPr/>
          </p:nvSpPr>
          <p:spPr>
            <a:xfrm>
              <a:off x="154656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产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TextBox 5"/>
            <p:cNvSpPr/>
            <p:nvPr/>
          </p:nvSpPr>
          <p:spPr>
            <a:xfrm>
              <a:off x="376128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散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TextBox 8"/>
            <p:cNvSpPr/>
            <p:nvPr/>
          </p:nvSpPr>
          <p:spPr>
            <a:xfrm>
              <a:off x="2571480" y="4432320"/>
              <a:ext cx="7840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>
                <a:lnSpc>
                  <a:spcPts val="49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692aa2"/>
                  </a:solidFill>
                  <a:latin typeface="Arial"/>
                </a:rPr>
                <a:t>&gt;</a:t>
              </a:r>
              <a:endParaRPr b="0" lang="en-US" sz="8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TextBox 10"/>
            <p:cNvSpPr/>
            <p:nvPr/>
          </p:nvSpPr>
          <p:spPr>
            <a:xfrm>
              <a:off x="6904440" y="4214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e230c"/>
                  </a:solidFill>
                  <a:latin typeface="黑体"/>
                  <a:ea typeface="黑体"/>
                </a:rPr>
                <a:t>发热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cxnSp>
        <p:nvCxnSpPr>
          <p:cNvPr id="119" name="AutoShape 20"/>
          <p:cNvCxnSpPr/>
          <p:nvPr/>
        </p:nvCxnSpPr>
        <p:spPr>
          <a:xfrm>
            <a:off x="5214960" y="4571640"/>
            <a:ext cx="1038600" cy="1080"/>
          </a:xfrm>
          <a:prstGeom prst="straightConnector1">
            <a:avLst/>
          </a:prstGeom>
          <a:ln w="63360">
            <a:solidFill>
              <a:srgbClr val="6600cc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一般状况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生命体征、营养状况、意识及面容表情、身体活动情况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皮肤黏膜有无异常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浅表淋巴结有无肿大、压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呼吸音有无增强、减弱或消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干性或湿性啰音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身体评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腹部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压痛、反跳痛及肌紧张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包块、肝脾等脏器肿大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肾区叩击痛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神经系统评估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病理反射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有无脑膜刺激征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buClr>
                <a:srgbClr val="046ca6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04560" y="1214280"/>
            <a:ext cx="88390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三）实验室及其检查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血、尿、便常规检查，必要时作病原体培养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骨髓、脑脊液、浆膜腔积液或深部脓肿穿刺检查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免疫学及电解质检查、结核菌素试验等；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胸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X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线、腹部</a:t>
            </a:r>
            <a:r>
              <a:rPr b="0" lang="en-US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超等检查。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常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温过高</a:t>
            </a:r>
            <a:r>
              <a:rPr b="0" lang="zh-CN" sz="26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病原体感染有关；与体温调节中枢功能障碍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体液不足  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高热期及体温下降期体液丢失过多有关；与液体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有营养失调的危险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低于机体需要量的危险  与发热所致机体消耗增加、消化吸收功能减退、营养物质摄入不足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焦虑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与担心疾病诊断不明、治疗效果不佳、预后不良有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61616"/>
                </a:solidFill>
                <a:latin typeface="Verdana"/>
                <a:ea typeface="隶书"/>
              </a:rPr>
              <a:t>潜在并发症：</a:t>
            </a:r>
            <a:r>
              <a:rPr b="0" lang="zh-CN" sz="2800" spc="-1" strike="noStrike">
                <a:solidFill>
                  <a:srgbClr val="990033"/>
                </a:solidFill>
                <a:latin typeface="Verdana"/>
                <a:ea typeface="隶书"/>
              </a:rPr>
              <a:t>意识障碍、惊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正常体温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组合 5"/>
          <p:cNvGrpSpPr/>
          <p:nvPr/>
        </p:nvGrpSpPr>
        <p:grpSpPr>
          <a:xfrm>
            <a:off x="785880" y="2500200"/>
            <a:ext cx="8072280" cy="3714840"/>
            <a:chOff x="785880" y="2500200"/>
            <a:chExt cx="8072280" cy="3714840"/>
          </a:xfrm>
        </p:grpSpPr>
        <p:sp>
          <p:nvSpPr>
            <p:cNvPr id="124" name="Rectangle 5"/>
            <p:cNvSpPr/>
            <p:nvPr/>
          </p:nvSpPr>
          <p:spPr>
            <a:xfrm>
              <a:off x="78588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体温调节中枢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（大脑皮质、下丘脑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5" name="AutoShape 11"/>
            <p:cNvCxnSpPr/>
            <p:nvPr/>
          </p:nvCxnSpPr>
          <p:spPr>
            <a:xfrm>
              <a:off x="328572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6" name="Rectangle 5"/>
            <p:cNvSpPr/>
            <p:nvPr/>
          </p:nvSpPr>
          <p:spPr>
            <a:xfrm>
              <a:off x="4000320" y="2500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神经、体液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因素调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7" name="AutoShape 11"/>
            <p:cNvCxnSpPr/>
            <p:nvPr/>
          </p:nvCxnSpPr>
          <p:spPr>
            <a:xfrm>
              <a:off x="5643360" y="2857320"/>
              <a:ext cx="694440" cy="216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28" name="Rectangle 5"/>
            <p:cNvSpPr/>
            <p:nvPr/>
          </p:nvSpPr>
          <p:spPr>
            <a:xfrm>
              <a:off x="6357960" y="2500200"/>
              <a:ext cx="2500200" cy="628560"/>
            </a:xfrm>
            <a:prstGeom prst="rect">
              <a:avLst/>
            </a:prstGeom>
            <a:noFill/>
            <a:ln w="1908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90033"/>
                  </a:solidFill>
                  <a:latin typeface="Arial"/>
                  <a:ea typeface="华文新魏"/>
                </a:rPr>
                <a:t>产热和散热动态平衡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内容占位符 12"/>
            <p:cNvSpPr/>
            <p:nvPr/>
          </p:nvSpPr>
          <p:spPr>
            <a:xfrm>
              <a:off x="928440" y="3786120"/>
              <a:ext cx="3986280" cy="2428920"/>
            </a:xfrm>
            <a:prstGeom prst="rect">
              <a:avLst/>
            </a:prstGeom>
            <a:noFill/>
            <a:ln w="28440">
              <a:solidFill>
                <a:srgbClr val="1d14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清晨安静状态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口腔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3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2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腋窝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0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直肠温度：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 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6.5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～</a:t>
              </a:r>
              <a:r>
                <a:rPr b="0" lang="en-US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37.7</a:t>
              </a:r>
              <a:r>
                <a:rPr b="0" lang="zh-CN" sz="2000" spc="-1" strike="noStrike">
                  <a:solidFill>
                    <a:srgbClr val="1d1496"/>
                  </a:solidFill>
                  <a:latin typeface="Arial"/>
                  <a:ea typeface="宋体"/>
                </a:rPr>
                <a:t>℃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8ac8de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24h</a:t>
              </a:r>
              <a:r>
                <a:rPr b="0" lang="zh-CN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波动范围不超过</a:t>
              </a:r>
              <a:r>
                <a:rPr b="0" lang="en-US" sz="2400" spc="-1" strike="noStrike">
                  <a:solidFill>
                    <a:srgbClr val="692aa2"/>
                  </a:solidFill>
                  <a:latin typeface="黑体"/>
                  <a:ea typeface="黑体"/>
                </a:rPr>
                <a:t>1℃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AutoShape 9"/>
            <p:cNvCxnSpPr/>
            <p:nvPr/>
          </p:nvCxnSpPr>
          <p:spPr>
            <a:xfrm>
              <a:off x="7643520" y="3142800"/>
              <a:ext cx="1080" cy="532440"/>
            </a:xfrm>
            <a:prstGeom prst="straightConnector1">
              <a:avLst/>
            </a:prstGeom>
            <a:ln w="28440">
              <a:solidFill>
                <a:srgbClr val="009e75"/>
              </a:solidFill>
              <a:miter/>
              <a:tailEnd len="med" type="triangle" w="med"/>
            </a:ln>
          </p:spPr>
        </p:cxnSp>
        <p:sp>
          <p:nvSpPr>
            <p:cNvPr id="131" name="Rectangle 5"/>
            <p:cNvSpPr/>
            <p:nvPr/>
          </p:nvSpPr>
          <p:spPr>
            <a:xfrm>
              <a:off x="6786720" y="3643200"/>
              <a:ext cx="1660320" cy="642960"/>
            </a:xfrm>
            <a:prstGeom prst="rect">
              <a:avLst/>
            </a:prstGeom>
            <a:noFill/>
            <a:ln w="28440">
              <a:solidFill>
                <a:srgbClr val="009e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66"/>
                  </a:solidFill>
                  <a:latin typeface="Arial"/>
                  <a:ea typeface="华文新魏"/>
                </a:rPr>
                <a:t>体温恒定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468360" y="2500200"/>
            <a:ext cx="81439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357280"/>
            <a:ext cx="8143920" cy="402444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5"/>
          <p:cNvSpPr/>
          <p:nvPr/>
        </p:nvSpPr>
        <p:spPr>
          <a:xfrm>
            <a:off x="5000760" y="692280"/>
            <a:ext cx="4143240" cy="3000240"/>
          </a:xfrm>
          <a:prstGeom prst="cloudCallout">
            <a:avLst>
              <a:gd name="adj1" fmla="val -132259"/>
              <a:gd name="adj2" fmla="val 9629"/>
            </a:avLst>
          </a:prstGeom>
          <a:gradFill rotWithShape="0">
            <a:gsLst>
              <a:gs pos="0">
                <a:srgbClr val="dab8dc"/>
              </a:gs>
              <a:gs pos="100000">
                <a:srgbClr val="f5ecf6"/>
              </a:gs>
            </a:gsLst>
            <a:lin ang="16200000"/>
          </a:gradFill>
          <a:ln w="9360">
            <a:solidFill>
              <a:srgbClr val="8859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外</a:t>
            </a:r>
            <a:r>
              <a:rPr b="0" lang="zh-CN" sz="20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细菌、病毒、真菌、螺旋体、疟原虫等病原体及其分泌的内、外毒素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来自体内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92aa2"/>
                </a:solidFill>
                <a:latin typeface="楷体_GB2312"/>
                <a:ea typeface="楷体_GB2312"/>
              </a:rPr>
              <a:t>炎性渗出物、无菌性坏死组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66760" y="105264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785880" y="2286000"/>
            <a:ext cx="785808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云形标注 5"/>
          <p:cNvSpPr/>
          <p:nvPr/>
        </p:nvSpPr>
        <p:spPr>
          <a:xfrm>
            <a:off x="4788000" y="1179360"/>
            <a:ext cx="3286080" cy="2213280"/>
          </a:xfrm>
          <a:prstGeom prst="cloudCallout">
            <a:avLst>
              <a:gd name="adj1" fmla="val -87101"/>
              <a:gd name="adj2" fmla="val 51324"/>
            </a:avLst>
          </a:prstGeom>
          <a:gradFill rotWithShape="0">
            <a:gsLst>
              <a:gs pos="0">
                <a:srgbClr val="5b98ae"/>
              </a:gs>
              <a:gs pos="100000">
                <a:srgbClr val="78c9e6"/>
              </a:gs>
            </a:gsLst>
            <a:lin ang="16200000"/>
          </a:gradFill>
          <a:ln w="9360">
            <a:solidFill>
              <a:srgbClr val="85c4d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720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1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肿瘤坏死因子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TNF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干扰素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FN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、白细胞介素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L-6</a:t>
            </a:r>
            <a:r>
              <a:rPr b="0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二）发病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调节机制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7" descr="D:\书稿\健康评估\北医出版社2014\专升本-健康评估\ppt\发热2.png"/>
          <p:cNvPicPr/>
          <p:nvPr/>
        </p:nvPicPr>
        <p:blipFill>
          <a:blip r:embed="rId1"/>
          <a:stretch/>
        </p:blipFill>
        <p:spPr>
          <a:xfrm>
            <a:off x="500040" y="2286000"/>
            <a:ext cx="8143920" cy="4095720"/>
          </a:xfrm>
          <a:prstGeom prst="rect">
            <a:avLst/>
          </a:prstGeom>
          <a:ln w="0">
            <a:noFill/>
          </a:ln>
        </p:spPr>
      </p:pic>
      <p:sp>
        <p:nvSpPr>
          <p:cNvPr id="149" name="云形标注 5"/>
          <p:cNvSpPr/>
          <p:nvPr/>
        </p:nvSpPr>
        <p:spPr>
          <a:xfrm>
            <a:off x="5310360" y="846000"/>
            <a:ext cx="3833640" cy="2880000"/>
          </a:xfrm>
          <a:prstGeom prst="cloudCallout">
            <a:avLst>
              <a:gd name="adj1" fmla="val 722"/>
              <a:gd name="adj2" fmla="val 108041"/>
            </a:avLst>
          </a:prstGeom>
          <a:gradFill rotWithShape="0">
            <a:gsLst>
              <a:gs pos="0">
                <a:srgbClr val="8ca8b3"/>
              </a:gs>
              <a:gs pos="100000">
                <a:srgbClr val="b8ddec"/>
              </a:gs>
            </a:gsLst>
            <a:lin ang="16200000"/>
          </a:gradFill>
          <a:ln w="9360">
            <a:solidFill>
              <a:srgbClr val="bfdbe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体温调节中枢受损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颅脑外伤、出血、炎症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产热↑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甲状腺功能亢进症、癫痫持续状态等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）散热↓</a:t>
            </a:r>
            <a:r>
              <a:rPr b="0" lang="zh-CN" sz="1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：如广泛性皮肤病、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295200" y="438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 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  <a:ea typeface="宋体"/>
              </a:rPr>
              <a:t>（三）病</a:t>
            </a:r>
            <a:r>
              <a:rPr b="0" lang="zh-CN" sz="3200" spc="-1" strike="noStrike">
                <a:solidFill>
                  <a:srgbClr val="161616"/>
                </a:solidFill>
                <a:latin typeface="Verdana"/>
                <a:ea typeface="宋体"/>
              </a:rPr>
              <a:t>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如机体的细菌、病毒、支原体、寄生虫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非感染性发热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无菌坏死物质的吸收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原</a:t>
            </a:r>
            <a:r>
              <a:rPr b="0" lang="en-US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-</a:t>
            </a: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抗体反应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中枢神经性发热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内分泌及代谢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皮肤散热障碍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自主神经功能紊乱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（一）问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发热的特点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程度 （口腔温度为标准）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低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7.3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中等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8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39.1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～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70c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超高热：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41℃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  <a:ea typeface="楷体_GB2312"/>
              </a:rPr>
              <a:t>以上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692aa2"/>
                </a:solidFill>
                <a:latin typeface="Arial"/>
                <a:ea typeface="楷体_GB2312"/>
              </a:rPr>
              <a:t>发热的过程</a:t>
            </a: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2aa2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、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1T08:02:13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